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2682538" cy="71310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 Light"/>
              </a:rPr>
              <a:t>Click to move the slide</a:t>
            </a: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5E8CA4-A6DC-4D2E-8DD6-AF9AE44AD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F40DBC-9E9B-4D4E-B26A-AD402629D7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EAE8BA-5C06-43AC-9414-3E39095B94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  <a:ea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BA8D7A-995E-46E1-961E-94690B6C0A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  <a:ea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1C034A-8231-4444-91B3-A7301EDD08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  <a:ea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92BC71-C603-4D58-8EB8-24977F70717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  <a:ea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D03961-998E-49A2-A9E8-373CE2F583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  <a:ea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CE8A09-5B41-44B4-BE26-6700A17E67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  <a:ea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93B624-F32D-4218-AAFB-38DB8C7450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  <a:ea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A96504-1A72-493E-83CE-FA2C6E29CFB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f9a12a"/>
              </a:solidFill>
              <a:latin typeface="Trebuchet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3D08BC-09CE-4356-8B4F-3644C9DE078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  <a:ea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07C63F-9AFA-4202-90A4-100FE79F38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800" spc="-1" strike="noStrike">
              <a:solidFill>
                <a:srgbClr val="f9a12a"/>
              </a:solidFill>
              <a:latin typeface="Trebuchet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01C886-C46F-4F2C-A7C5-F80F8DAAEE0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800" spc="-1" strike="noStrike">
              <a:solidFill>
                <a:srgbClr val="f9a12a"/>
              </a:solidFill>
              <a:latin typeface="Trebuchet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425E9F-E2DE-4F58-80D9-6EC85BD8D4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  <a:ea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3AE93A-7908-4DAB-9790-51C9D371FC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  <a:ea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3B4F95-77FE-4AA7-8AA0-70C8ACF57BD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  <a:ea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077C4F-23E4-4978-ADFA-A6970F6BE9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  <a:ea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B253-2444-4828-94E8-D8D182601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1093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71200" y="4262760"/>
            <a:ext cx="1093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0F12-EEE1-467D-BDC6-22A054D0B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200" y="426276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475680" y="426276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D5F1-A556-40A2-B21F-375E1FB70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69480" y="189864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267760" y="189864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71200" y="426276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69480" y="426276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267760" y="426276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9911-BEAB-402C-9A29-27396B5DD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71200" y="1898640"/>
            <a:ext cx="10937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37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3DB8-3F96-4290-A592-127876AC2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1093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A356-7B8A-4BE5-98C0-15156CD99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6659-0A2B-495A-9F12-5957DF873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65B1-5461-43B7-8E2F-95D5B3395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71200" y="379440"/>
            <a:ext cx="1093788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37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8EB9-7EC9-41BE-BCBF-3C6DB89B8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71200" y="426276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D96F-C299-425D-97E0-6D260402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475680" y="426276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B0D6-C4F6-4050-BD3D-440A2A96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71200" y="4262760"/>
            <a:ext cx="1093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5EE1-630D-4079-99E9-8472F005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71200" y="1898640"/>
            <a:ext cx="1093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118728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66356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213840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213840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213840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71560" y="6610320"/>
            <a:ext cx="2852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00120" y="6610320"/>
            <a:ext cx="42800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956800" y="6610320"/>
            <a:ext cx="2852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D6EC27-BE44-44EE-927D-C3BC5F6D59B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39440" y="3133800"/>
            <a:ext cx="9713880" cy="19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800" spc="-1" strike="noStrike">
                <a:solidFill>
                  <a:srgbClr val="ffffff"/>
                </a:solidFill>
                <a:latin typeface="Trebuchet MS"/>
              </a:rPr>
              <a:t>BIOLOŠKI MEHANIZMI</a:t>
            </a:r>
            <a:br>
              <a:rPr sz="4800"/>
            </a:br>
            <a:r>
              <a:rPr b="1" lang="sr-Latn-CS" sz="4800" spc="-1" strike="noStrike">
                <a:solidFill>
                  <a:srgbClr val="ffffff"/>
                </a:solidFill>
                <a:latin typeface="Trebuchet MS"/>
              </a:rPr>
              <a:t>ZAŠTITE USNE DUPLJE</a:t>
            </a: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39640" y="5479920"/>
            <a:ext cx="8001000" cy="18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37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100" spc="-1" strike="noStrike">
                <a:solidFill>
                  <a:srgbClr val="f9a12a"/>
                </a:solidFill>
                <a:latin typeface="Trebuchet MS"/>
              </a:rPr>
              <a:t>DOC. DR RA</a:t>
            </a:r>
            <a:r>
              <a:rPr b="1" lang="sr-Latn-RS" sz="3100" spc="-1" strike="noStrike">
                <a:solidFill>
                  <a:srgbClr val="f9a12a"/>
                </a:solidFill>
                <a:latin typeface="Trebuchet MS"/>
              </a:rPr>
              <a:t>Š</a:t>
            </a:r>
            <a:r>
              <a:rPr b="1" lang="sr-Latn-CS" sz="3100" spc="-1" strike="noStrike">
                <a:solidFill>
                  <a:srgbClr val="f9a12a"/>
                </a:solidFill>
                <a:latin typeface="Trebuchet MS"/>
              </a:rPr>
              <a:t>A </a:t>
            </a:r>
            <a:r>
              <a:rPr b="1" lang="en-US" sz="3100" spc="-1" strike="noStrike">
                <a:solidFill>
                  <a:srgbClr val="f9a12a"/>
                </a:solidFill>
                <a:latin typeface="Trebuchet MS"/>
              </a:rPr>
              <a:t>J. </a:t>
            </a:r>
            <a:r>
              <a:rPr b="1" lang="sr-Latn-CS" sz="3100" spc="-1" strike="noStrike">
                <a:solidFill>
                  <a:srgbClr val="f9a12a"/>
                </a:solidFill>
                <a:latin typeface="Trebuchet MS"/>
              </a:rPr>
              <a:t>MLADENOVIĆ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10683720" y="2957400"/>
            <a:ext cx="609840" cy="23241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1292400" y="317520"/>
            <a:ext cx="1066932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3100" spc="-1" strike="noStrike">
                <a:solidFill>
                  <a:srgbClr val="000000"/>
                </a:solidFill>
                <a:latin typeface="Trebuchet MS"/>
              </a:rPr>
              <a:t>FAKULTET MEDICINSKIH NAUKA</a:t>
            </a:r>
            <a:br>
              <a:rPr sz="3100"/>
            </a:br>
            <a:r>
              <a:rPr b="1" lang="sr-Latn-RS" sz="3100" spc="-1" strike="noStrike">
                <a:solidFill>
                  <a:srgbClr val="000000"/>
                </a:solidFill>
                <a:latin typeface="Trebuchet MS"/>
              </a:rPr>
              <a:t>UNIVERZITET U KRAGUJEVCU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00120" y="1504800"/>
            <a:ext cx="971712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3600" spc="-1" strike="noStrike">
                <a:solidFill>
                  <a:srgbClr val="f9a12a"/>
                </a:solidFill>
                <a:latin typeface="Trebuchet MS"/>
              </a:rPr>
              <a:t>PREVENTIVNA</a:t>
            </a:r>
            <a:r>
              <a:rPr b="1" lang="en-US" sz="3600" spc="-1" strike="noStrike">
                <a:solidFill>
                  <a:srgbClr val="f9a12a"/>
                </a:solidFill>
                <a:latin typeface="Trebuchet MS"/>
              </a:rPr>
              <a:t> STOMATOLOGIJ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340000" y="6165720"/>
            <a:ext cx="80010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2600" spc="-1" strike="noStrike">
                <a:solidFill>
                  <a:srgbClr val="000000"/>
                </a:solidFill>
                <a:latin typeface="Trebuchet MS"/>
              </a:rPr>
              <a:t>MMXXII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Rectangle: Rounded Corners 8"/>
          <p:cNvSpPr/>
          <p:nvPr/>
        </p:nvSpPr>
        <p:spPr>
          <a:xfrm>
            <a:off x="10683720" y="138240"/>
            <a:ext cx="1219320" cy="990360"/>
          </a:xfrm>
          <a:prstGeom prst="roundRect">
            <a:avLst>
              <a:gd name="adj" fmla="val 16667"/>
            </a:avLst>
          </a:prstGeom>
          <a:solidFill>
            <a:srgbClr val="f45e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5400" spc="-1" strike="noStrike">
                <a:solidFill>
                  <a:srgbClr val="000000"/>
                </a:solidFill>
                <a:latin typeface="Trebuchet MS"/>
              </a:rPr>
              <a:t>02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15"/>
          <p:cNvGrpSpPr/>
          <p:nvPr/>
        </p:nvGrpSpPr>
        <p:grpSpPr>
          <a:xfrm>
            <a:off x="10379160" y="5927760"/>
            <a:ext cx="1295280" cy="531720"/>
            <a:chOff x="10379160" y="5927760"/>
            <a:chExt cx="1295280" cy="531720"/>
          </a:xfrm>
        </p:grpSpPr>
        <p:sp>
          <p:nvSpPr>
            <p:cNvPr id="97" name="AutoShape 16"/>
            <p:cNvSpPr/>
            <p:nvPr/>
          </p:nvSpPr>
          <p:spPr>
            <a:xfrm>
              <a:off x="10379160" y="5951160"/>
              <a:ext cx="1295280" cy="508320"/>
            </a:xfrm>
            <a:prstGeom prst="roundRect">
              <a:avLst>
                <a:gd name="adj" fmla="val 50000"/>
              </a:avLst>
            </a:prstGeom>
            <a:solidFill>
              <a:srgbClr val="f45e4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sr-Latn-RS" sz="2300" spc="-1" strike="noStrike">
                  <a:solidFill>
                    <a:srgbClr val="000000"/>
                  </a:solidFill>
                  <a:latin typeface="Trebuchet MS"/>
                </a:rPr>
                <a:t> </a:t>
              </a:r>
              <a:endParaRPr b="0" lang="en-US" sz="23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8" name="AutoShape 16"/>
            <p:cNvSpPr/>
            <p:nvPr/>
          </p:nvSpPr>
          <p:spPr>
            <a:xfrm>
              <a:off x="10975320" y="5927760"/>
              <a:ext cx="699120" cy="508320"/>
            </a:xfrm>
            <a:prstGeom prst="roundRect">
              <a:avLst>
                <a:gd name="adj" fmla="val 500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sr-Latn-RS" sz="2300" spc="-1" strike="noStrike">
                  <a:solidFill>
                    <a:srgbClr val="000000"/>
                  </a:solidFill>
                  <a:latin typeface="Trebuchet MS"/>
                </a:rPr>
                <a:t>1%</a:t>
              </a:r>
              <a:endParaRPr b="0" lang="en-US" sz="23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9" name="Rectangle 3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SASTAV PLJUVAČKE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16"/>
          <p:cNvSpPr/>
          <p:nvPr/>
        </p:nvSpPr>
        <p:spPr>
          <a:xfrm>
            <a:off x="1006560" y="5954760"/>
            <a:ext cx="10058400" cy="507960"/>
          </a:xfrm>
          <a:prstGeom prst="roundRect">
            <a:avLst>
              <a:gd name="adj" fmla="val 50000"/>
            </a:avLst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2300" spc="-1" strike="noStrike">
                <a:solidFill>
                  <a:srgbClr val="000000"/>
                </a:solidFill>
                <a:latin typeface="Trebuchet MS"/>
              </a:rPr>
              <a:t>99%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-3794040" y="4938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Trebuchet MS"/>
              </a:rPr>
              <a:t>VOD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2149560" y="4938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Trebuchet MS"/>
              </a:rPr>
              <a:t>ORGANSKI MOLEKULI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3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ULOGA PLJUVAČKE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1196640" y="2195280"/>
            <a:ext cx="107060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Protektivna uloga pljuvačke se ogleda u njenim fizičkim, hemijskim i antibakterijskim svojstvima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Remineralizacija je u direktnoj zavisnosti od prisustva jona u pljuvački. Zubi se ne rastvaraju u njoj zato što je prezasidena solima kalcijuma, fosfata i hidroksilnih jona pa se često za pljuvačku kaže da predstavlja </a:t>
            </a:r>
            <a:r>
              <a:rPr b="1" lang="sr-Latn-CS" sz="2800" spc="-1" strike="noStrike">
                <a:solidFill>
                  <a:srgbClr val="ffffff"/>
                </a:solidFill>
                <a:latin typeface="Trebuchet MS"/>
              </a:rPr>
              <a:t>„tečnu gleđ“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3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FIZIČKA ZAŠTIT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1196640" y="2118960"/>
            <a:ext cx="107060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Razblažuje i ispira UH i kisele produkt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Podmazuje, kvasi i oblaže oralnu sluznicu mukoznim komponentama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Klirens ugljenih hidrata se odvija u dve faze: brzi klirens u prvih 6 minuta, i u drugoj fazi čišćenje je sporije i proporcionalno je stepenu lučenja pljuvačke i proteklom vremenu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3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HEMIJSKA ZAŠTIT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1196640" y="1949040"/>
            <a:ext cx="107060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Održava pH u usnoj duplji, što se zasniva na fizičkom delovanju i puferskom sposobnostima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Kiselost oralne sredine direktno je zavisna od stepena produkcije kiselih produkata, brzine eliminacije, i mogućnosti neutralizacije kiselina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Puferski sistem pljuvačke čine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300" spc="-1" strike="noStrike">
                <a:solidFill>
                  <a:srgbClr val="ffffff"/>
                </a:solidFill>
                <a:latin typeface="Trebuchet MS"/>
              </a:rPr>
              <a:t>Bikarbonati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300" spc="-1" strike="noStrike">
                <a:solidFill>
                  <a:srgbClr val="ffffff"/>
                </a:solidFill>
                <a:latin typeface="Trebuchet MS"/>
              </a:rPr>
              <a:t>Fosfati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300" spc="-1" strike="noStrike">
                <a:solidFill>
                  <a:srgbClr val="ffffff"/>
                </a:solidFill>
                <a:latin typeface="Trebuchet MS"/>
              </a:rPr>
              <a:t>Proteini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300" spc="-1" strike="noStrike">
                <a:solidFill>
                  <a:srgbClr val="ffffff"/>
                </a:solidFill>
                <a:latin typeface="Trebuchet MS"/>
              </a:rPr>
              <a:t>ureja. 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3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ANTIBAKTERIJSKA ULOG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1196640" y="1949040"/>
            <a:ext cx="107060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Vodeću ulogu imaju proteini i lipidi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Antimikrobna svojstva celokupne pljuvačke potiču uglavnom iz dve grupe antimikrobnih proteina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300" spc="-1" strike="noStrike">
                <a:solidFill>
                  <a:srgbClr val="ffffff"/>
                </a:solidFill>
                <a:latin typeface="Trebuchet MS"/>
              </a:rPr>
              <a:t>Urođeni (neimunoglobulinski): lizozim, laktoferin, peroksidazni sistem, aglutinini, salivarni histidinom bogati proteini, lipidi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300" spc="-1" strike="noStrike">
                <a:solidFill>
                  <a:srgbClr val="ffffff"/>
                </a:solidFill>
                <a:latin typeface="Trebuchet MS"/>
              </a:rPr>
              <a:t>Stečeni (imunoglobulinski): IgA, IgG, i IgM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3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HIPOFUNKCIJ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1196640" y="1949040"/>
            <a:ext cx="107060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Uzroci hipofunkcije pljuvačnih žlezda a samim tim i sledstvene kserostomije mogu biti raznovrsni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300" spc="-1" strike="noStrike">
                <a:solidFill>
                  <a:srgbClr val="ffffff"/>
                </a:solidFill>
                <a:latin typeface="Trebuchet MS"/>
              </a:rPr>
              <a:t>gubitak vode i metabolita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300" spc="-1" strike="noStrike">
                <a:solidFill>
                  <a:srgbClr val="ffffff"/>
                </a:solidFill>
                <a:latin typeface="Trebuchet MS"/>
              </a:rPr>
              <a:t>oštećenje pljuvačnih žlezda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rebuchet MS"/>
              </a:rPr>
              <a:t>smetnje u neuralnoj transmisij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Kao posledica kserostomije javljaju se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300" spc="-1" strike="noStrike">
                <a:solidFill>
                  <a:srgbClr val="ffffff"/>
                </a:solidFill>
                <a:latin typeface="Trebuchet MS"/>
              </a:rPr>
              <a:t>karijes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300" spc="-1" strike="noStrike">
                <a:solidFill>
                  <a:srgbClr val="ffffff"/>
                </a:solidFill>
                <a:latin typeface="Trebuchet MS"/>
              </a:rPr>
              <a:t>oralna kandidijaza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300" spc="-1" strike="noStrike">
                <a:solidFill>
                  <a:srgbClr val="ffffff"/>
                </a:solidFill>
                <a:latin typeface="Trebuchet MS"/>
              </a:rPr>
              <a:t>orofacijalni bol (stomatodinije i stomatopiroze)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300" spc="-1" strike="noStrike">
                <a:solidFill>
                  <a:srgbClr val="ffffff"/>
                </a:solidFill>
                <a:latin typeface="Trebuchet MS"/>
              </a:rPr>
              <a:t>poremećaj žvakanja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ORALNA MIKROFLOR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1196640" y="2118960"/>
            <a:ext cx="10706040" cy="30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9320" indent="-2293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Od svih bakterija u usnoj duplji najviše je proučavana grupa streptokoka, a vrste koje se u ustima najčešće sreću su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91200" indent="-2293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300" spc="-1" strike="noStrike">
                <a:solidFill>
                  <a:srgbClr val="ffffff"/>
                </a:solidFill>
                <a:latin typeface="Trebuchet MS"/>
              </a:rPr>
              <a:t>S. mutans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lvl="1" marL="691200" indent="-2293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300" spc="-1" strike="noStrike">
                <a:solidFill>
                  <a:srgbClr val="ffffff"/>
                </a:solidFill>
                <a:latin typeface="Trebuchet MS"/>
              </a:rPr>
              <a:t>S. sanguis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lvl="1" marL="691200" indent="-2293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300" spc="-1" strike="noStrike">
                <a:solidFill>
                  <a:srgbClr val="ffffff"/>
                </a:solidFill>
                <a:latin typeface="Trebuchet MS"/>
              </a:rPr>
              <a:t>S. mitior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lvl="1" marL="691200" indent="-2293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300" spc="-1" strike="noStrike">
                <a:solidFill>
                  <a:srgbClr val="ffffff"/>
                </a:solidFill>
                <a:latin typeface="Trebuchet MS"/>
              </a:rPr>
              <a:t>S. salivarius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lvl="1" marL="691200" indent="-2293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300" spc="-1" strike="noStrike">
                <a:solidFill>
                  <a:srgbClr val="ffffff"/>
                </a:solidFill>
                <a:latin typeface="Trebuchet MS"/>
              </a:rPr>
              <a:t>S. mileri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0800" y="557280"/>
            <a:ext cx="1028700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200" spc="-1" strike="noStrike">
                <a:solidFill>
                  <a:srgbClr val="ffffff"/>
                </a:solidFill>
                <a:latin typeface="Trebuchet MS"/>
              </a:rPr>
              <a:t>MUKOZNO GLEĐNA BARIJERA</a:t>
            </a:r>
            <a:endParaRPr b="0" lang="en-US" sz="4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197000" y="2088720"/>
            <a:ext cx="56959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600" spc="-1" strike="noStrike">
                <a:solidFill>
                  <a:srgbClr val="f9a12a"/>
                </a:solidFill>
                <a:latin typeface="Trebuchet MS"/>
              </a:rPr>
              <a:t>Pločasto slojeviti epitel je prvi mehanizam odbrane koji sprečava prodor neželjenih makromolekula, nutritivnog i bakterijskog porekla.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2" marL="1187280" indent="-236520">
              <a:lnSpc>
                <a:spcPct val="90000"/>
              </a:lnSpc>
              <a:spcBef>
                <a:spcPts val="524"/>
              </a:spcBef>
              <a:buClr>
                <a:srgbClr val="f9a12a"/>
              </a:buClr>
              <a:buFont typeface="Trebuchet MS"/>
              <a:buChar char="−"/>
              <a:tabLst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0800" y="557280"/>
            <a:ext cx="1028700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200" spc="-1" strike="noStrike">
                <a:solidFill>
                  <a:srgbClr val="ffffff"/>
                </a:solidFill>
                <a:latin typeface="Trebuchet MS"/>
              </a:rPr>
              <a:t>MUKOZNO GLEĐNA BARIJERA</a:t>
            </a:r>
            <a:endParaRPr b="0" lang="en-US" sz="4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196640" y="2088720"/>
            <a:ext cx="106297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200" spc="-1" strike="noStrike">
                <a:solidFill>
                  <a:srgbClr val="f9a12a"/>
                </a:solidFill>
                <a:latin typeface="Trebuchet MS"/>
              </a:rPr>
              <a:t>Slaba tačka mukozno-gleđne barijere se javlja na mestima nicanja zuba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16"/>
          <p:cNvSpPr/>
          <p:nvPr/>
        </p:nvSpPr>
        <p:spPr>
          <a:xfrm>
            <a:off x="3594240" y="3948120"/>
            <a:ext cx="5181480" cy="507960"/>
          </a:xfrm>
          <a:prstGeom prst="roundRect">
            <a:avLst>
              <a:gd name="adj" fmla="val 50000"/>
            </a:avLst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2300" spc="-1" strike="noStrike">
                <a:solidFill>
                  <a:srgbClr val="000000"/>
                </a:solidFill>
                <a:latin typeface="Trebuchet MS"/>
              </a:rPr>
              <a:t>DESKVAMACIJA EPITELNIH ĆELIJA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AutoShape 16"/>
          <p:cNvSpPr/>
          <p:nvPr/>
        </p:nvSpPr>
        <p:spPr>
          <a:xfrm>
            <a:off x="4422600" y="4809960"/>
            <a:ext cx="3505320" cy="509760"/>
          </a:xfrm>
          <a:prstGeom prst="roundRect">
            <a:avLst>
              <a:gd name="adj" fmla="val 50000"/>
            </a:avLst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2300" spc="-1" strike="noStrike">
                <a:solidFill>
                  <a:srgbClr val="000000"/>
                </a:solidFill>
                <a:latin typeface="Trebuchet MS"/>
              </a:rPr>
              <a:t>SULKUSNA TEČNOST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AutoShape 16"/>
          <p:cNvSpPr/>
          <p:nvPr/>
        </p:nvSpPr>
        <p:spPr>
          <a:xfrm>
            <a:off x="4245120" y="5689440"/>
            <a:ext cx="3809880" cy="506520"/>
          </a:xfrm>
          <a:prstGeom prst="roundRect">
            <a:avLst>
              <a:gd name="adj" fmla="val 50000"/>
            </a:avLst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2300" spc="-1" strike="noStrike">
                <a:solidFill>
                  <a:srgbClr val="000000"/>
                </a:solidFill>
                <a:latin typeface="Trebuchet MS"/>
              </a:rPr>
              <a:t>FAGOCITI I MAKROFAGI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0800" y="557280"/>
            <a:ext cx="1028700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200" spc="-1" strike="noStrike">
                <a:solidFill>
                  <a:srgbClr val="ffffff"/>
                </a:solidFill>
                <a:latin typeface="Trebuchet MS"/>
              </a:rPr>
              <a:t>STRUKTURA GLEĐI</a:t>
            </a:r>
            <a:endParaRPr b="0" lang="en-US" sz="4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197000" y="2088720"/>
            <a:ext cx="72770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Procesi demineralizacije i remineralizacij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Pri padu pH na vrednosti ispod 5,5 tj. povećanja koncentracije vodonikovih jona u plakovnom rastvoru dolazi do razlaganja jedinjenja kalcijuma i fosfata. Molekuli kalcijum difunduju kroz plakovnu polupropustljivu membranu i odlaze u pljuvačku. Organizam nedostatak kalcijuma u plakovnom sistemu može nadoknaditi jedino iz gleđi dovodeći do njenog razlaganja tj. pojačanog procesa demineralizacij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0800" y="557280"/>
            <a:ext cx="1028700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200" spc="-1" strike="noStrike">
                <a:solidFill>
                  <a:srgbClr val="ffffff"/>
                </a:solidFill>
                <a:latin typeface="Trebuchet MS"/>
              </a:rPr>
              <a:t>STRUKTURA GLEĐI</a:t>
            </a:r>
            <a:endParaRPr b="0" lang="en-US" sz="4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197000" y="2088720"/>
            <a:ext cx="72770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U isto vreme postoji i proces remineralizacije ali u uslovima snižene pH, procesi demineralizacije su znatno izraženiji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Ako ne dođe do vraćanja vrednosti pH ka neutralnim duže vreme, doći će do značajnijeg gubitka minerala iz gleđi i nastanka početne karijesne lezije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0800" y="557280"/>
            <a:ext cx="1028700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200" spc="-1" strike="noStrike">
                <a:solidFill>
                  <a:srgbClr val="ffffff"/>
                </a:solidFill>
                <a:latin typeface="Trebuchet MS"/>
              </a:rPr>
              <a:t>PROMENE ISPOD PLAKA</a:t>
            </a:r>
            <a:endParaRPr b="0" lang="en-US" sz="4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196640" y="2088720"/>
            <a:ext cx="107060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Akumulacija plaka na zube u nicanju je značajna zbog nemogućnosti njihovog pranja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Stupanjem zuba u funkciju i otpočinjanjem procesa održavanja oralne higijene dolazi do uklanjanja plaka, a uz prisustvo fluorida karijesni proces neće napredovati već će doći do remineralizacije i oporavka oštećenih kristala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1"/>
          <p:cNvGrpSpPr/>
          <p:nvPr/>
        </p:nvGrpSpPr>
        <p:grpSpPr>
          <a:xfrm>
            <a:off x="3378240" y="5396040"/>
            <a:ext cx="5419800" cy="663480"/>
            <a:chOff x="3378240" y="5396040"/>
            <a:chExt cx="5419800" cy="663480"/>
          </a:xfrm>
        </p:grpSpPr>
        <p:sp>
          <p:nvSpPr>
            <p:cNvPr id="74" name="AutoShape 16"/>
            <p:cNvSpPr/>
            <p:nvPr/>
          </p:nvSpPr>
          <p:spPr>
            <a:xfrm>
              <a:off x="4302720" y="5473440"/>
              <a:ext cx="4495320" cy="508320"/>
            </a:xfrm>
            <a:prstGeom prst="roundRect">
              <a:avLst>
                <a:gd name="adj" fmla="val 50000"/>
              </a:avLst>
            </a:prstGeom>
            <a:solidFill>
              <a:srgbClr val="99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sr-Latn-RS" sz="2300" spc="-1" strike="noStrike">
                  <a:solidFill>
                    <a:srgbClr val="000000"/>
                  </a:solidFill>
                  <a:latin typeface="Trebuchet MS"/>
                </a:rPr>
                <a:t>RESTITUTIO AD INTEGRUM</a:t>
              </a:r>
              <a:endParaRPr b="0" lang="en-US" sz="23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75" name="Picture 9" descr=""/>
            <p:cNvPicPr/>
            <p:nvPr/>
          </p:nvPicPr>
          <p:blipFill>
            <a:blip r:embed="rId2">
              <a:lum bright="100000"/>
            </a:blip>
            <a:stretch/>
          </p:blipFill>
          <p:spPr>
            <a:xfrm>
              <a:off x="3378240" y="5396040"/>
              <a:ext cx="663480" cy="663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mb dir="ver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PLJUVAČK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  <p:grpSp>
        <p:nvGrpSpPr>
          <p:cNvPr id="78" name="Group 7"/>
          <p:cNvGrpSpPr/>
          <p:nvPr/>
        </p:nvGrpSpPr>
        <p:grpSpPr>
          <a:xfrm>
            <a:off x="5959440" y="2424240"/>
            <a:ext cx="5087880" cy="507960"/>
            <a:chOff x="5959440" y="2424240"/>
            <a:chExt cx="5087880" cy="507960"/>
          </a:xfrm>
        </p:grpSpPr>
        <p:sp>
          <p:nvSpPr>
            <p:cNvPr id="79" name="AutoShape 16"/>
            <p:cNvSpPr/>
            <p:nvPr/>
          </p:nvSpPr>
          <p:spPr>
            <a:xfrm>
              <a:off x="7604640" y="2424240"/>
              <a:ext cx="3442680" cy="507960"/>
            </a:xfrm>
            <a:prstGeom prst="roundRect">
              <a:avLst>
                <a:gd name="adj" fmla="val 50000"/>
              </a:avLst>
            </a:prstGeom>
            <a:solidFill>
              <a:srgbClr val="99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sr-Latn-RS" sz="2300" spc="-1" strike="noStrike">
                  <a:solidFill>
                    <a:srgbClr val="000000"/>
                  </a:solidFill>
                  <a:latin typeface="Trebuchet MS"/>
                </a:rPr>
                <a:t>SUBMANDIBULARNA </a:t>
              </a:r>
              <a:endParaRPr b="0" lang="en-US" sz="23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0" name="AutoShape 16"/>
            <p:cNvSpPr/>
            <p:nvPr/>
          </p:nvSpPr>
          <p:spPr>
            <a:xfrm>
              <a:off x="5959440" y="2424240"/>
              <a:ext cx="1418760" cy="507960"/>
            </a:xfrm>
            <a:prstGeom prst="roundRect">
              <a:avLst>
                <a:gd name="adj" fmla="val 50000"/>
              </a:avLst>
            </a:prstGeom>
            <a:solidFill>
              <a:srgbClr val="2e98b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sr-Latn-RS" sz="2300" spc="-1" strike="noStrike">
                  <a:solidFill>
                    <a:srgbClr val="000000"/>
                  </a:solidFill>
                  <a:latin typeface="Trebuchet MS"/>
                </a:rPr>
                <a:t>65%</a:t>
              </a:r>
              <a:endParaRPr b="0" lang="en-US" sz="23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81" name="Group 9"/>
          <p:cNvGrpSpPr/>
          <p:nvPr/>
        </p:nvGrpSpPr>
        <p:grpSpPr>
          <a:xfrm>
            <a:off x="5981760" y="3335400"/>
            <a:ext cx="5065560" cy="507960"/>
            <a:chOff x="5981760" y="3335400"/>
            <a:chExt cx="5065560" cy="507960"/>
          </a:xfrm>
        </p:grpSpPr>
        <p:sp>
          <p:nvSpPr>
            <p:cNvPr id="82" name="AutoShape 16"/>
            <p:cNvSpPr/>
            <p:nvPr/>
          </p:nvSpPr>
          <p:spPr>
            <a:xfrm>
              <a:off x="7657200" y="3335400"/>
              <a:ext cx="3390120" cy="507960"/>
            </a:xfrm>
            <a:prstGeom prst="roundRect">
              <a:avLst>
                <a:gd name="adj" fmla="val 50000"/>
              </a:avLst>
            </a:prstGeom>
            <a:solidFill>
              <a:srgbClr val="99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sr-Latn-RS" sz="2300" spc="-1" strike="noStrike">
                  <a:solidFill>
                    <a:srgbClr val="000000"/>
                  </a:solidFill>
                  <a:latin typeface="Trebuchet MS"/>
                </a:rPr>
                <a:t>PAROTIDNA</a:t>
              </a:r>
              <a:endParaRPr b="0" lang="en-US" sz="23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3" name="AutoShape 16"/>
            <p:cNvSpPr/>
            <p:nvPr/>
          </p:nvSpPr>
          <p:spPr>
            <a:xfrm>
              <a:off x="5981760" y="3335400"/>
              <a:ext cx="1397160" cy="507960"/>
            </a:xfrm>
            <a:prstGeom prst="roundRect">
              <a:avLst>
                <a:gd name="adj" fmla="val 50000"/>
              </a:avLst>
            </a:prstGeom>
            <a:solidFill>
              <a:srgbClr val="2e98b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sr-Latn-RS" sz="2300" spc="-1" strike="noStrike">
                  <a:solidFill>
                    <a:srgbClr val="000000"/>
                  </a:solidFill>
                  <a:latin typeface="Trebuchet MS"/>
                </a:rPr>
                <a:t>20-25%</a:t>
              </a:r>
              <a:endParaRPr b="0" lang="en-US" sz="23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84" name="Group 10"/>
          <p:cNvGrpSpPr/>
          <p:nvPr/>
        </p:nvGrpSpPr>
        <p:grpSpPr>
          <a:xfrm>
            <a:off x="5970600" y="4249800"/>
            <a:ext cx="5035680" cy="507960"/>
            <a:chOff x="5970600" y="4249800"/>
            <a:chExt cx="5035680" cy="507960"/>
          </a:xfrm>
        </p:grpSpPr>
        <p:sp>
          <p:nvSpPr>
            <p:cNvPr id="85" name="AutoShape 16"/>
            <p:cNvSpPr/>
            <p:nvPr/>
          </p:nvSpPr>
          <p:spPr>
            <a:xfrm>
              <a:off x="7615800" y="4249800"/>
              <a:ext cx="3390480" cy="507960"/>
            </a:xfrm>
            <a:prstGeom prst="roundRect">
              <a:avLst>
                <a:gd name="adj" fmla="val 50000"/>
              </a:avLst>
            </a:prstGeom>
            <a:solidFill>
              <a:srgbClr val="99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sr-Latn-RS" sz="2300" spc="-1" strike="noStrike">
                  <a:solidFill>
                    <a:srgbClr val="000000"/>
                  </a:solidFill>
                  <a:latin typeface="Trebuchet MS"/>
                </a:rPr>
                <a:t>SUBLINGVALNA</a:t>
              </a:r>
              <a:endParaRPr b="0" lang="en-US" sz="23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6" name="AutoShape 16"/>
            <p:cNvSpPr/>
            <p:nvPr/>
          </p:nvSpPr>
          <p:spPr>
            <a:xfrm>
              <a:off x="5970600" y="4249800"/>
              <a:ext cx="1397160" cy="507960"/>
            </a:xfrm>
            <a:prstGeom prst="roundRect">
              <a:avLst>
                <a:gd name="adj" fmla="val 50000"/>
              </a:avLst>
            </a:prstGeom>
            <a:solidFill>
              <a:srgbClr val="2e98b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sr-Latn-RS" sz="2300" spc="-1" strike="noStrike">
                  <a:solidFill>
                    <a:srgbClr val="000000"/>
                  </a:solidFill>
                  <a:latin typeface="Trebuchet MS"/>
                </a:rPr>
                <a:t>5-7%</a:t>
              </a:r>
              <a:endParaRPr b="0" lang="en-US" sz="23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87" name="Group 20"/>
          <p:cNvGrpSpPr/>
          <p:nvPr/>
        </p:nvGrpSpPr>
        <p:grpSpPr>
          <a:xfrm>
            <a:off x="5992920" y="5160960"/>
            <a:ext cx="5056200" cy="509760"/>
            <a:chOff x="5992920" y="5160960"/>
            <a:chExt cx="5056200" cy="509760"/>
          </a:xfrm>
        </p:grpSpPr>
        <p:sp>
          <p:nvSpPr>
            <p:cNvPr id="88" name="AutoShape 16"/>
            <p:cNvSpPr/>
            <p:nvPr/>
          </p:nvSpPr>
          <p:spPr>
            <a:xfrm>
              <a:off x="7659720" y="5162040"/>
              <a:ext cx="3389400" cy="508680"/>
            </a:xfrm>
            <a:prstGeom prst="roundRect">
              <a:avLst>
                <a:gd name="adj" fmla="val 50000"/>
              </a:avLst>
            </a:prstGeom>
            <a:solidFill>
              <a:srgbClr val="f9a12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sr-Latn-RS" sz="2300" spc="-1" strike="noStrike">
                  <a:solidFill>
                    <a:srgbClr val="000000"/>
                  </a:solidFill>
                  <a:latin typeface="Trebuchet MS"/>
                </a:rPr>
                <a:t>MALE MUKOZNE</a:t>
              </a:r>
              <a:endParaRPr b="0" lang="en-US" sz="23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9" name="AutoShape 16"/>
            <p:cNvSpPr/>
            <p:nvPr/>
          </p:nvSpPr>
          <p:spPr>
            <a:xfrm>
              <a:off x="5992920" y="5160960"/>
              <a:ext cx="1396800" cy="508680"/>
            </a:xfrm>
            <a:prstGeom prst="roundRect">
              <a:avLst>
                <a:gd name="adj" fmla="val 50000"/>
              </a:avLst>
            </a:prstGeom>
            <a:solidFill>
              <a:srgbClr val="2e98b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85840"/>
                  <a:tab algn="l" pos="2371680"/>
                  <a:tab algn="l" pos="3557520"/>
                  <a:tab algn="l" pos="4743360"/>
                  <a:tab algn="l" pos="5929200"/>
                  <a:tab algn="l" pos="7115040"/>
                  <a:tab algn="l" pos="8300880"/>
                  <a:tab algn="l" pos="9487080"/>
                  <a:tab algn="l" pos="10672920"/>
                </a:tabLst>
              </a:pPr>
              <a:r>
                <a:rPr b="1" lang="sr-Latn-RS" sz="2300" spc="-1" strike="noStrike">
                  <a:solidFill>
                    <a:srgbClr val="000000"/>
                  </a:solidFill>
                  <a:latin typeface="Trebuchet MS"/>
                </a:rPr>
                <a:t>7-8%</a:t>
              </a:r>
              <a:endParaRPr b="0" lang="en-US" sz="23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p:transition>
    <p:comb dir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NESTIMULISANA PLJUVAČK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1196640" y="1890360"/>
            <a:ext cx="107060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dnevni biorita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godišnja dob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sistemska oboljenj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febrilna stanj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dehidratacij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položaj tel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lekovi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po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uzras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STIMULISANA PLJUVAČK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1196640" y="2390400"/>
            <a:ext cx="107060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Najčešći nadražaji koji izazivaju stimulisano lučenje pljuvačke su: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300" spc="-1" strike="noStrike">
                <a:solidFill>
                  <a:srgbClr val="ffffff"/>
                </a:solidFill>
                <a:latin typeface="Trebuchet MS"/>
              </a:rPr>
              <a:t>mehanički (žvakanje)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300" spc="-1" strike="noStrike">
                <a:solidFill>
                  <a:srgbClr val="ffffff"/>
                </a:solidFill>
                <a:latin typeface="Trebuchet MS"/>
              </a:rPr>
              <a:t>gustativni (kiselo, slano, gorko)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300" spc="-1" strike="noStrike">
                <a:solidFill>
                  <a:srgbClr val="ffffff"/>
                </a:solidFill>
                <a:latin typeface="Trebuchet MS"/>
              </a:rPr>
              <a:t>olfaktivni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300" spc="-1" strike="noStrike">
                <a:solidFill>
                  <a:srgbClr val="ffffff"/>
                </a:solidFill>
                <a:latin typeface="Trebuchet MS"/>
              </a:rPr>
              <a:t>vizuelni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300" spc="-1" strike="noStrike">
                <a:solidFill>
                  <a:srgbClr val="ffffff"/>
                </a:solidFill>
                <a:latin typeface="Trebuchet MS"/>
              </a:rPr>
              <a:t>psihogeni itd.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1T11:47:34Z</dcterms:created>
  <dc:creator>Rale</dc:creator>
  <dc:description/>
  <dc:language>en-US</dc:language>
  <cp:lastModifiedBy>kompjuterash</cp:lastModifiedBy>
  <dcterms:modified xsi:type="dcterms:W3CDTF">2023-02-17T17:11:21Z</dcterms:modified>
  <cp:revision>509</cp:revision>
  <dc:subject/>
  <dc:title>RTG U DEČJOJ STOMATOLOGIJI</dc:title>
</cp:coreProperties>
</file>